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F4A8-2D33-4BE0-A131-212C269A4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2D76-FE91-4219-9E93-3E485B145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316440-AC3E-406C-97B5-E86A7A5F2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8340E9-0093-4F16-93C1-5BF4D9D3E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961E98-7EE3-4849-A06B-D29FEAC13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C9CE5D-8BDD-4C21-A0B2-9DAC0E118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5903C5-7056-4E78-8F57-074EDEB5E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C8F838-C29F-491C-B180-02E8A562D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4895E6-EDA1-4373-8EF1-4B11EE9E8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1EB262-2E49-492D-8836-DE2EE33C6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93E2CF-6911-46FE-93EB-AA6A583E9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644038-3232-40FE-A1B4-B24147645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C81B-01D9-4F82-ABE1-52BEC799D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700EC0-D57A-49AE-856B-F196421F4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463E36-BBB7-4B0F-A5B7-829116D5F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B6A30E-B315-41F1-9583-F9CDE708B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3F592C-9D85-46D3-B587-7F656984A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CA1587-7774-4D16-8CD1-0C012A4FE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62A00B-D7CF-4AC3-AD78-C5150CA3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0D2264-04FB-4E6C-A6FD-79E1397F8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3F4FF2-9545-4F62-A055-793C36866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CA86EA-D5E2-44C2-BBE9-714287431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2ED7A2-323A-45DC-9B9C-8F87D2F59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1A13-9552-4F41-83C0-D65D7ADAB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524E55-B666-4313-9AD9-EB685E88F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B12761-4943-45F3-990F-815367795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CEE803-6CDE-4BB9-A42E-A05B034D8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0DFB12-6F5B-473F-B2E9-B40ED16F7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BFFA50-E672-4812-AE53-73898C3A1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C0273E-D70B-4CE4-B8FB-BBD363302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E234C2-15CC-4EAC-8541-0B02F2AD4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C7CA2C-B955-463A-84A1-D93FFD8D9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B49A6D-BF14-4A33-ADA4-C674E1658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2C6072-5019-409E-A1FD-7B3CD693F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89EFF-FA24-4F0E-928A-29C796B38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11001D-C50E-4E26-8B1B-6BC7563CF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A23420-2EFF-4335-B2F5-119D4BBF1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9DED84-E3EA-4ACD-8273-D93324005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023D6A-0617-4941-BEFE-05DF2A278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5541E6-43FB-4A6E-A6E9-6B54C7BFD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290716-A94D-4E00-B344-443AC5A34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1F8F58-3FCC-416B-91BB-B60D2CEBC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F0FD67-453D-4ED6-8462-E850617E7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FBE590-F6A3-4642-92F7-8EDE5C4C2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F55658-92A7-4A27-A354-5ACFC33AA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0C48B-C586-45F6-B186-D9379DBB9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39887E-A21C-4C7D-88C9-115A48958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AC6F37-F7F1-401C-94C2-019A44416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A2ECE0-7F35-4D7B-AFF5-1709AC2E1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DE4675-4FEE-4834-B28F-3FA279874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B08A76-4FCF-45BB-A6D6-69BF6DFB4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39496-3F3B-4C3F-9832-7AF8C03CD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B2C5A-EBB2-4FEC-ACCB-E767E6B0C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CD857-7517-47F0-A732-54CC64EAB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6379E-6764-4168-A82A-72034FB78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C931C-CB32-421A-AF0E-F086C3159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440A-CE9A-4317-AD09-2444D3594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AD68E-3D4A-4853-A8A1-9E271302A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C97A2-35B5-4829-8E38-B0957C9D2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A0140-59DE-4E77-890E-8F0481D12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69FC1-6224-43B2-B429-0D7494172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EDD8B-F0AB-4927-B0CB-D57E5720D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0F5B1-EA57-424C-AAF1-324238928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F4910-C4C1-456C-881D-AEB71D0DB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9C2E5-2B18-4FDE-975B-79DEDAB3B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6879E-A238-4C28-A288-CCA221984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229E8-BAEA-4944-B7EA-8768292B1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F21D-D73D-45E4-B05D-0BE0465C3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8134D-7C77-4178-93F5-52C71DAE6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05A5F-6DBE-46F3-A368-BFEDA3417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B9FCE-9076-4840-B0BA-239CF6693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CBAAC-867D-4480-A565-55DACF9CA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BE490-35E1-402B-8B97-E70AB06BB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36983-C0FD-400F-A417-562B47E91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E2C79-0D18-4D80-8FB8-D68E23AA3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FB60C2-5B08-42BA-84E5-92BB79483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4A4BA-26AF-4B91-8555-0780B6CC4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13ACA-11C0-472D-AE44-BE1A81E19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63BB-3A1F-4686-BAD6-0D1A3CAEC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2C741-7B33-4767-9F3F-B9243E3BF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5BFBC-AA5A-4972-9704-8D40C997E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76CCC-E07D-4047-810C-572F9E4A2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306C7-BA18-4DA2-B548-D65F77588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79786-7E1C-43A1-987F-B9E2FB145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0C1C3C-EC56-459B-9931-081FABE0C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D0994-09E4-47A8-9FAE-93585C64B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CCE58-06E4-4312-9C0E-D20F72C14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8B2E64-4E7B-416E-9AAF-8E22F2B17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19B6F7-081D-4EA1-9722-5B58B6F2B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E41F-51CD-4DB3-BD8F-EEB4A98C5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0EC090-6432-44EC-871A-5B11CCF5D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800DC9-A54E-44B2-A655-D8C07BE39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E64E03-279B-40DD-BD5A-2544A4C95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805F70-A7AB-4F5C-899D-2F2C8A5FE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AA4C8D-3329-4C11-ABCF-C7796CA03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D10258-42FE-4206-8DAE-F841F102B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209E46-A6CD-46EB-B702-94939597F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DDB4C9-2A6F-4009-9368-54F9AB49C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58ABB3-A43A-4BB7-82E0-AD1615E84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2196CF-8D8B-465E-A31A-1AE4BC4DC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6102-68DC-481C-B5C7-51E1C6948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3BE6ED-BBD5-472A-94A9-68D8DFFAC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B7165F-5A44-451F-BE9A-B3E421C12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D1B600-4166-405A-A795-92C6D7E42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32F24C-628E-4585-B749-E35A58356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68B2E9-6C4C-45EB-B4CA-C94DED8CB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8024D3-0734-41AA-AAA9-32DC8B368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C9856C-8D15-4474-9416-4831A0424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60BA3C-6C3D-4EA3-A697-6FDAE487E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BC3AF8-7EAB-48EE-8FAB-3FB08591F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F298E1-CBFF-4CB4-8A34-A8D2B9EC3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C32D-AC95-4AA3-9D90-0604970B0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7BB4FC-7A4A-4DFB-A3BA-475158D2B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0B4E4B-9208-4FF7-BE7E-DFECC9F7F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FA070C-C4A8-4A29-8C70-536B92F5D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681DD7-E37D-45E9-A814-C16D8AD2D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5DA1DB-05FE-4883-B71F-5423F7545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5BB490-A0B5-4370-A4DC-5BA135261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F644B0-3557-46B8-9A3E-925741913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8AFB5B-0F01-4FAC-9AF1-3283DD637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F219EE-AC73-4D87-8751-E8DC26428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CC86E6-5B80-4B24-B8EE-FD28869F4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1B0D-0A03-4BDA-9569-32CDA251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D8FAAF-DE10-4005-9269-D15A5A6E6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BBFCD0-B103-4AD9-A9AE-05377E3DB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7527FC-A139-4C2B-AFAA-051793C6E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573731-48F5-45A5-9FC0-18976B135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847CB4-C32A-44DA-AC8C-427FC0368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A85BA8-E914-4FC0-BF00-EDA7BD591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5E9CBB-5B20-4DCB-BE78-8106880FB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71954A-A6B4-4EA3-A1C3-1FD263216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841FBB-FC28-47F4-A60B-33771BBE0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B860A9-D1DF-49A9-9E5B-66D1C1286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8842-298C-4C30-AC10-5C429306D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2090E2-BEFE-4F35-8377-6F0F3BEFD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BB3146-EE26-4320-9D71-3D583E6FB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34B70F-057D-4ECD-AF69-929808229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272F29-9E01-4705-BB04-2AC0373F1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405194-6F60-4935-BFA9-B3A9EFD2C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72CEEE-7669-4E5F-AF9E-FE9E23FF8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69316A-AE4D-4CD5-B5F2-3B1DFD1C7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D4BA95-A7E8-43B5-BB53-BF882560E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F6403D-D699-42B8-BCC8-6C3901653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07267B-A607-4C90-B16B-E299D682C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F4EC1-7208-4457-AD30-CE630069066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93404-76AA-49ED-9832-07922E3846F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BDC18-8C66-4E1B-AF41-8052FFA5BEF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A3967-D0D1-4ADE-A32A-EFB3F04718C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D087E-B349-4BB5-94A1-F0BBC1A6F3B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8AEFC-D47C-4835-8EBF-2869BE70C54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2C3F2-7041-43B6-BC23-F7549CBBA30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B87D3-B233-4CF5-997C-3BC0893089F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B458E-64B7-4AB8-B02B-6C99B5FFF8D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CBE01-618F-43C4-8F95-ADF8CEC9634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D27A4-29A2-47AE-BFF8-FD434CA0CDB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1E477-E70D-487E-B3BF-598D5D2C370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308 Prúd času rýchle odnáš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úd času rýchle odnáša tie chvíl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o tvoja láska darovala n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pred,Pane kráčať chcem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v novej sile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s tebou vstúpiť raz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o slávy br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áč, Pane stále viesť nás Duchom Svätý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Slova tvojho nech nám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vieti j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aj deťom svojim, láskou čistou spätý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esť mena tvojho šíriť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každý čas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4T14:00:08Z</dcterms:modified>
  <cp:revision>13</cp:revision>
  <dc:subject/>
  <dc:title>Je veľký náš Pán, on slávy je Kráľ Nech do všetkých strán  spev vrúcnych znie chvál.</dc:title>
</cp:coreProperties>
</file>